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102-B228-47CB-8DF1-A980442A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AA8-E99E-4D29-8E5B-13CCA119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787-6E14-4C09-8947-AC178D5C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9B4-7FEB-4DC0-8327-762A0F00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44F7-305E-418A-A97E-2D30327E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D833-EF33-41E6-9850-0620E8E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D46F-79A8-443F-82B1-90864142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8196-769D-4721-BA35-65577FB2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412C-3C6C-4853-B2DF-572A28A6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48DD-A631-4F08-BBAB-85AE018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855B-FAE1-42C9-BA61-A8C0322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12F-BD68-4DFE-A2D7-7FA2BCC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4F8E-7697-4EFF-9E41-33DE6E11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5F7C-4575-477F-B0F8-79658282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B9AC-FA76-4155-9CA6-3C3F2288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37C3-63FE-4F4F-A2D6-C76C0792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5A01-345D-48E0-AE3C-6D744855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54B4-5BC3-41EC-BEC3-0455267B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CA05-7D6F-47E5-9DB0-258C633E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26E2-5C80-4827-A586-8BD1057B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80B0-01BD-4C92-A15E-A2FEE803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D73E6-708E-41FC-BED5-CDD6A4E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8FC-495A-4F86-B822-DEAAB897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D74DA-3E50-49EF-8AFB-DCDBD563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51D7-5C67-4478-9902-BB92A221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DA6F-2AAA-4DC9-872F-48259A18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A745-580D-4BAD-BFBB-4A69FCC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4EF7-E84F-49D3-AF70-A142A43B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38E88-E612-49A4-996B-43E637C7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BD8C-A484-4B6C-9C2A-348CFE35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A52F-7C72-4E4A-875A-51CDD6F9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1412-B2CC-4AE7-8A42-3BBE6AA0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CF8D8-F94D-4703-A473-995A2FBD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783-4D02-4727-8A5C-E2ADDEF4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7E55-7BEE-4B35-B6EF-A9409271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527D-CB35-4468-B715-62E30DEA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1AFA1-29F9-49ED-8E7F-E7661203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CE73-281F-474D-8DDF-3F37A71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D40F-4ACD-4A3A-87B3-A972A8EC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05AF7-1D94-4248-9129-B49D60D7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8B74-6B51-4393-A3C1-BD1ED4A5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2040-E31E-4172-AC9A-CD815C5C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B2E73-9746-40EE-A2C6-862E4AD6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B827D-6DCD-4C6B-9061-B2DE8852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83D-FDF0-46BF-90ED-72D46D27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1F191-AD42-4CC9-B01C-01E4D4DD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AF5B1-42EB-458B-B848-5543A1F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08B38-109F-4899-8770-336F8E7A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E330-5459-4B2A-A1CA-0919A40C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C2D1F-26BD-4AF1-AC1E-204BDD41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8779B-8CBA-45E1-A044-980EFF8A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31933-50BD-420F-9D0E-F0CF141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0D3F5-65F1-4365-A9A3-22DFDDC1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9725B-076E-47ED-8494-CEE5998E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504F9-BEF5-4699-AC62-0D513C83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8EB-B6D4-44FB-861C-0F5DF54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0B5E8-7094-4C1A-B531-7ED093C8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F9993-284F-4B79-BA09-CFDD8689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F45CB-F0B3-4A66-90B6-320F2665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46BD-E087-42C4-B65E-2ABB71B0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E1BCB-D456-4AAC-9796-70F09D2F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03AD3-BE87-4844-B913-259D06DB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1F93E-A78F-4EC8-B754-CCA3192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FC3F5-F0C0-4933-BDA2-5C91127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77B3D-BD4B-4148-824D-B3503B02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153E8-8E79-46AB-9A09-BED238C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DB3-EB8D-4B92-8E0B-CB8362AB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3A128-B28F-4B0B-9EB8-C0A37E32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8F045-763C-4588-B499-B31EB52E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96E7-0498-44FA-90FD-5A5A2299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2600B-7887-4A12-8C51-663D8C42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D71CF-6094-4F02-9682-A78CAABB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7F3EC-557E-4257-A967-0502B198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8C45B-BE41-4DA5-A0AC-4EEAE5E2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0973C-439F-4D06-8747-91042887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C120E-2C3B-4D07-A2CB-BDF42A68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3B113-A7CA-4735-BC3C-B5EBF6CB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7DE-7408-4371-AA4C-50A3B29A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0227-6BA7-4F82-A57F-935D869E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B8049-DB49-423E-9C6A-3F19353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C167-0BF6-4521-8378-338EF1C3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BDD0B-01D6-4D6D-A299-3E5128E4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7E0A8-4B47-42C3-A32B-76EF95C2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6389B-17B0-432A-9188-A683724D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249A-DB6C-4739-A84A-96765C03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65E0C-4A74-4014-B480-654F3334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E9CC0-1BC4-44F0-8F5B-9EEAFD21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FE2CF-56DF-47F4-9A4C-B97D4429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1D1-CDBB-40DB-BA3A-B785D86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5397-7C06-4AA2-AF03-A7B072E6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B6374-1B12-4EDF-BFB0-FEFF4AE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B97D-EE72-43F7-94FD-D847640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75B5C-17D6-4FB4-A533-E8B262C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2B474-79A7-4064-A15A-97894AC3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33150-1AB3-4746-A8D0-0C071150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AA8C9-1D28-4781-B9EC-70347407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0556-D4D4-47AB-A747-BDD84FE768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A2F-2614-46CC-9781-BB06365995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1D78-8AEE-4945-A8FB-70F5CB41CA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28D7-8E0D-4D23-9024-2B0E8AF4BA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CD06-EA49-4930-966A-046F500480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1500-8F82-4296-BD05-3756865EF2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2371-74EC-4AC4-B9CD-693A7241CD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35BC-4779-48F2-83E0-F6CAE2685A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iandra Treti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~PP603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Lucida Sans Unicode"/>
              </a:rPr>
              <a:t>La Pelicula “El Mar Adentro” de Ramon Sampedro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s-CO" sz="2200" spc="-1" strike="noStrike">
                <a:solidFill>
                  <a:srgbClr val="ffffff"/>
                </a:solidFill>
                <a:latin typeface="Lucida Sans Unicode"/>
              </a:rPr>
              <a:t>l era un tetrapl</a:t>
            </a:r>
            <a:r>
              <a:rPr b="0" lang="es-ES_tradnl" sz="2200" spc="-1" strike="noStrike">
                <a:solidFill>
                  <a:srgbClr val="ffffff"/>
                </a:solidFill>
                <a:latin typeface="Lucida Sans Unicode"/>
              </a:rPr>
              <a:t>é</a:t>
            </a:r>
            <a:r>
              <a:rPr b="0" lang="es-CO" sz="2200" spc="-1" strike="noStrike">
                <a:solidFill>
                  <a:srgbClr val="ffffff"/>
                </a:solidFill>
                <a:latin typeface="Lucida Sans Unicode"/>
              </a:rPr>
              <a:t>gico de 28 years  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Lucida Sans Unicode"/>
              </a:rPr>
              <a:t>Tenía una familia que se preocupaba por él, sin embargo, él todavía pensaba que la muerte era la única opción 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Lucida Sans Unicode"/>
              </a:rPr>
              <a:t>Bebió cianuro de potasio y murió después de ser asistido por una persona 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133800"/>
          </a:xfrm>
          <a:prstGeom prst="rect">
            <a:avLst/>
          </a:prstGeom>
          <a:ln w="0">
            <a:noFill/>
          </a:ln>
        </p:spPr>
      </p:pic>
      <p:pic>
        <p:nvPicPr>
          <p:cNvPr id="375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~PP2234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Lucida Sans Unicode"/>
              </a:rPr>
              <a:t>La legislación española: cualquier persona que ayuda a personas para poner fin a su propia vida, puede ser juzgado y declarado culpable de homicidio sin premeditació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Lucida Sans Unicode"/>
              </a:rPr>
              <a:t>Esa persona puede ser condenada a más de tres años de prisión  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3573720" cy="2971800"/>
          </a:xfrm>
          <a:prstGeom prst="rect">
            <a:avLst/>
          </a:prstGeom>
          <a:ln w="0">
            <a:noFill/>
          </a:ln>
        </p:spPr>
      </p:pic>
      <p:pic>
        <p:nvPicPr>
          <p:cNvPr id="379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~PP3187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España debería adoptar una ley de Francia, la ley del “Fin de La Vida”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médicos se les aconseja evitar tomar medidas extremas para no morir 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O mantener pacientes con muerte cerebral vivos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3740040" cy="2535480"/>
          </a:xfrm>
          <a:prstGeom prst="rect">
            <a:avLst/>
          </a:prstGeom>
          <a:ln w="0">
            <a:noFill/>
          </a:ln>
        </p:spPr>
      </p:pic>
      <p:pic>
        <p:nvPicPr>
          <p:cNvPr id="38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~PP3276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Lucida Sans Unicode"/>
              </a:rPr>
              <a:t>Alegaciones de la sedación que causan la muerte prematura de cuatrocientos pacientes con enfermedades terminales.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Lucida Sans Unicode"/>
              </a:rPr>
              <a:t>La legalización de la eutanasia, no haría sino aumentar los casos de este tipo de suicidios en masa que no han sido aceptados por los propios pacientes.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645000" cy="2728800"/>
          </a:xfrm>
          <a:prstGeom prst="rect">
            <a:avLst/>
          </a:prstGeom>
          <a:ln w="0">
            <a:noFill/>
          </a:ln>
        </p:spPr>
      </p:pic>
      <p:pic>
        <p:nvPicPr>
          <p:cNvPr id="387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88" name="~PP3835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La legalización de la eutanasia, no haría sino aumentar los casos de este tipo de suicidios en masa que no han sido aceptados por los propios pacientes…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y por eso, la eutanasia debe ser ilega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3805200" cy="2743200"/>
          </a:xfrm>
          <a:prstGeom prst="rect">
            <a:avLst/>
          </a:prstGeom>
          <a:ln w="0">
            <a:noFill/>
          </a:ln>
        </p:spPr>
      </p:pic>
      <p:pic>
        <p:nvPicPr>
          <p:cNvPr id="391" name="Tit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~PP3219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7:22:42Z</dcterms:created>
  <dc:creator>Diandra</dc:creator>
  <dc:description/>
  <dc:language>en-US</dc:language>
  <cp:lastModifiedBy>Diandra</cp:lastModifiedBy>
  <dcterms:modified xsi:type="dcterms:W3CDTF">2012-04-13T20:13:55Z</dcterms:modified>
  <cp:revision>18</cp:revision>
  <dc:subject/>
  <dc:title>La Eutanasia en España</dc:title>
</cp:coreProperties>
</file>